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562-A0B2-49DF-B139-0669A0D6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9AF-81F8-4EA0-9D63-ADF78B6E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3551F-30E6-4695-9D27-E2D45E76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59528-509F-4960-8671-E151A3C2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1866D-46E1-46BB-A6B7-614B51E0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46877-A6F5-4C91-826D-AFA9392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9FA2E-0666-4E49-9010-20C75FF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D8FC3-42E3-46C7-9467-A2A75735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2B389-7B7D-40C2-AC10-985DCF43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0EF06-43E4-4044-9470-B362AE94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73781-667E-47E1-A98C-97AB882E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96AD3-DBD2-409B-921C-D03CE031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8A8-17B1-4B72-980F-49E630B2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0F8CF-DE1D-49D8-8B53-B842240C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B3118-26A0-48F4-ABAA-9E389BF4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AAD0E-5577-41E2-9A69-137D3C4F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56261-5BDC-4103-B76A-5186B294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7EB22-4572-4DC5-A13C-D04518D3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C05AB-54D2-409D-A02B-1184C38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E804D-D4C4-4D81-BB75-58F71363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480B3-43F1-4542-91AC-ABD006F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E1995-E117-4A49-9F34-9682BA1C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5F665-A21F-4278-AA88-99CCE639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890-4732-4F04-9E87-791E3DFE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34FB3-F4F2-4369-8138-361B9A2F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0D48E-8B9F-4CF4-B638-53D64119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15656-1C6A-40AF-9FED-418332E3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BB504-36CB-4F99-97C5-6841DD4B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259EA-006C-4854-BAD9-5BCE86B2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92EFB-2FC7-4C60-85C6-BE3B03F9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A2E7B-37AC-4A91-997F-95662538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81E35-136D-467E-A87E-95C7F8E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F23BE-234E-4A2C-B7ED-E91D5AF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AD495-0A55-43B8-98C4-78DF53D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32DC-0F51-4921-9C68-C264920D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BE291-D2B5-4620-9C1F-7ABB1B5E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C0BB6-6B0D-42E0-BE06-ABBD9774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1DF70-9601-4DBD-B2B7-3CFFF8A8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2050D-9BFA-48D5-BA3E-C3F93274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B7825-1108-49A4-8F4D-70607555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27FD2-AC34-4164-8644-9EDE6735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9ADCF-36A1-41BF-B9A8-2D5E57B7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0A620-31E0-4D19-B7EA-B84A050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FB8AC-DC3B-4414-A11A-1ED8E0FA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66432-2790-4DF1-ADD2-FB57AE9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42F3-819B-4189-AC04-1C0B2B33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8C8E0-E685-4491-AC73-1766058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0320C-B49C-4383-BAF9-96BF92F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B84FC-2212-4DE3-BB43-0A531286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29400-388A-4ED9-8944-E3A4946F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46351-E243-488B-8B18-EDA69EEA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6D55C-5778-422E-AC37-636B8023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EDF98-45F9-4C90-B561-881D3583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661F9-07A4-49B4-A43B-69434FA4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3DEC6-D915-4F6F-A237-6D26978D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10EC3-CA82-4D88-9436-16BAA6B6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A948-8A74-4DE4-90BF-8A700927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75668-A74C-4B4E-B78A-626387F6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AA0CC-AD5F-4146-A45E-83EE2284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9F2E0-46F9-465E-B50D-0D86A93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97200-B40A-4F0F-9DE8-EB0EF611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2A95B-DD09-4B31-97D6-5F8BD04B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42552-3C35-452B-BD2E-7AAE8D12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E3757-76A2-46BB-B3E2-70286E2D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6B3CB-7449-4C00-9260-4CEF5573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300A6-35D7-4CD7-96F7-47EA3CF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0933F-4812-4B84-9DE2-0D0264A7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64DF-91B0-40E8-B93C-D6A127C0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E62AD-5293-49D0-A1D8-8EACB1CD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F5F95-646F-47DC-A872-808648EC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485B8-7F56-44ED-B433-7BD84345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5546F-CC86-491D-9335-3C8EA56C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C4BF3-25A8-44B3-84E4-8AC15EA7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519BC-44FA-4364-B868-2EE3F164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CE43A-328E-4C4B-B1BC-CAE1DB4A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03924-AA6F-4E45-A053-386FA307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2B38C-41CA-4C37-ACC6-BB3F5AAC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17615-2E6A-48F7-9DBF-5D6B5789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5C6-C569-4100-AA65-0E17D821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B4CC6-1DC2-46DE-9E0A-E66CA4D3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10711D-FDA0-4F2C-8BAC-6730A133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A8DDA-82D9-4E13-925E-B932AAAB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05828-5181-4C01-88C0-EB6C84D9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1AF71-0CE5-4E55-A385-3128C6BB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2BB25-3B58-430A-B7F5-81EF8C1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24930-1366-4F4D-B73B-23BA7E9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A0637-6761-4DA0-85B4-F0CBF57A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36D24-6269-4E0A-A242-C01D0E69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C0A50-2D70-4316-A34D-296F3EEC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64BC-9371-4B9C-B84B-FB7F6FE3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53B2B-1643-4A2C-B632-52D7201D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80C62-A5DA-407C-9AB7-C5E9582C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AE8D6-0E05-485E-AA45-EC10FD8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8505F-DBA0-46D2-AF39-2B3CACB6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6AD2D-199B-4EC1-9212-80DB0D42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55D89-27D7-4046-B37C-78802F1E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BF364-74C9-4E5B-8C78-D3BF1F23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0BE4B-7B52-417D-8E03-30F7F630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36E53-9813-4C2A-ABA0-BA722C9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3E826-1F94-40BB-89D1-821C4B82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11B9-D7D9-4DAE-BA88-81E36FBB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DA00E-1AAE-49AD-8F9D-E932E541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78882-9FD1-4B56-86EC-78495D2D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6D98D-A5FF-4BD7-A6FB-3412433D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F954B-A94E-40CC-A32F-F6E65EF5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40A67-D057-4DEE-837E-D8AAC992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CEA3A-0F2C-407B-9541-A82E06BC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B1CB3-CF6D-481E-9013-CA80F414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21BBB-D77A-461F-A52A-67EBC16F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E7182-087E-4816-9FF5-828B2547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24DF4-51AA-45B9-BAED-E27FC7F3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5CA-B4E9-4CE9-BB63-2BD9CB96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CB61-3EF7-4473-BCF8-76EAA9A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FEFE5-AB09-4254-96C3-87965A5A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5A523-07BD-4090-A832-A75450F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89210-C9A2-4BDE-B155-EE4DF28A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07D7EC-16C9-4F04-AF91-A07A113F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966AB-79DB-46E7-9B2C-C1B5F7BF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7C6822-6F06-4E30-A48A-18E44BDD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4BDAE-7DE8-44AE-9083-EC88BEC6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D2FD9-2160-4123-9CDD-C62741AE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817E07-C3BD-4FFB-B24F-C97BB517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E4351-CF6C-4A99-AA31-B4042CEB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6FE7-59ED-4FCA-87AA-43965BEA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3B55E-4380-4A3A-AB57-E2F345FE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282DC-2BB7-4708-AE22-55B0D61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CADD8-E68E-45A0-8D4D-6F7B4724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B2B0A-AA78-4A12-B20D-4634A42F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AA5BE3-B72D-41F0-96A2-7999C567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422D9-4981-4961-B0ED-581663D7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D628CD-2080-4B91-AF73-9D2E9FD6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52A3B6-42B7-41A1-908A-B5FB5C94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07B1E3-F3DD-4079-A002-0C543A29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A7908-F342-459E-9D47-B377F587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7A76-3135-4479-9B1C-7E2BB5E1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37397-DB6E-4509-8A27-472F2EE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313F0-A891-4095-B82B-9E4D7A0E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DD341-C652-4345-AD80-5C9DC9E0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BD102-C6A9-450B-A93C-1E8AB811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B9A068-3B59-4EBB-B8C4-E47458B7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E44871-C9E4-48C1-A07F-2739CC22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4B988-8D5B-40B9-93B4-4808178C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EA6492-73B2-41D4-B3F8-09D7B688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80E42-6AE6-483F-9D73-7219BDB0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73E814-7E34-44BF-86D5-F09C899D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5053-5D3C-4D30-873D-2C5445AF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E4B52-460D-4CFD-9C0B-7E577CC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9A23E4-6C6F-4A1A-BC7C-15339CB3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3659F9-99B4-4B70-8949-F69EBB7D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8E5BF-DE94-4B69-AFF6-B71113ED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BD3C8-7605-4B66-92EF-6C409226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7224E-7E08-4649-A81C-23C7635B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19ED0-4F9A-4AA4-839A-DF7E9996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C11D9-49A0-43A1-B5CF-8ACD171F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03BA4-4F2F-4FAB-B631-6D10A06F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C0E3B-D5BF-469D-BB25-ABBEE80F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0C6B-5A1C-463C-8353-42E245B7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9100CC-6B5D-412A-B016-D7646C55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943C0-946B-46ED-9FF6-11828021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CA5E15-F3FE-4244-90D1-D1152AF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73302E-549E-4EED-8897-875A8E8F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263FD7-C7C9-42F8-AEEF-7038E71A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EE2AB-9662-410D-A5ED-1CAA2548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9EFC3-4EFC-4641-82DC-5DE56090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1A0B9-65F0-4CA9-A4E1-58FD00C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5DD81-2F12-4069-8E2A-412D4C92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6563E8-0B77-4095-8FEF-D7430AB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6F25-7E7E-438D-93A6-FCBE70E6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46E892-C7D8-4BBC-8AD3-49A2AC42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F9074-02D7-4D47-BDEB-5B77074A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4234C-BFC8-4258-B2F0-A4EDD360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C8C8DE-8E3B-43FB-913F-5A08D897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CBD1EB-0686-45FD-A707-C0BF0932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640E2-8831-45C5-9365-5A2FFDA0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92576E-5A75-41F1-94D5-D435F164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0C5C25-4516-4F81-93BE-E2EDBA21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74200B-DB1F-4FE9-8DAB-BED470DF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6BD191-E96A-4CEC-B812-EA04D31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88C5-540F-4908-8F50-91817065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C1D755-33E6-4ED6-983C-BBE6DAE1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56BDEB-8BDF-406F-AD87-110FD823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301807-F649-4732-A348-DF09B313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A45ABE-C3F2-4F10-93E7-F5777505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7C25C6-311F-48BD-864E-13DFAC12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EF79-974E-4637-9B66-3ED4E4E4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9711-2729-43BE-B24D-FA9BE8BF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DEBD-AE4F-4A2C-A976-C74A162F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274-A120-4F03-A02D-463EC0F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A7C1-9D13-40EF-9B43-04A731E2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ED039-9686-4E49-BA5B-12A5BE0D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B655-C9E7-4F4C-ABFA-6664FD2D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F1231-AE55-4939-AD6C-25654B58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E3E4-6A7F-4745-B048-97696F02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CDD9-A974-4A08-99DA-07486A36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FEE4-E2DD-4328-A833-DA1D2520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97B3-FB94-4447-A01A-E23CF704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9AC9-EE73-442C-A936-6507CDAF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D55CA-17B7-4131-9362-D2751447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58C-197A-41AB-A09E-C5824223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A9C0-1AC0-4E92-B44F-F4DC0CE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828F-DE5F-4DA1-AA80-539687F1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1170-5779-48D9-BDD3-2444ABCA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421E-DE14-4B13-BD0D-FFAA61AA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9542-D44B-4ECA-9DE9-76BD0266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AD2D-ADD8-47C6-A242-C66A5ED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7CE0-7D3A-4104-B71B-231353DD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0739-96A4-47C3-A810-3EB4CCBB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FE4F1-D7A5-4B08-9FB2-BF08B6B5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3D11C-EBB8-4DEE-81A4-3C8B446B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90A-64EA-47D6-9AD6-272615D3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7A230-A154-474F-9A68-A5AC7F6C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F9A0-7EC0-4BD9-B595-E1E69687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8FBCF-53A6-47D2-A88B-1DA7DDC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3197-2AE7-4373-ADF6-92E2E513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39859-38EE-4E76-B21E-70A321E4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F116D-B0AA-4727-8AD0-09427A1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B14D-6013-415C-BE9A-40B1898C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75BA6-0F5B-42AD-9FD9-C17F5EBD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4CFFB-5913-445A-993E-14039FA2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024D-2D71-4B81-A4D7-2E8E4470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A59-628C-491E-95C4-A6578203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BA42-D37B-432A-850C-171C0031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C29E6-B726-449A-BED5-EB0AC898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ACEC8-A71D-443F-B0C9-6BBC2070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193C-3236-42E7-A947-C77EB19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EE305-2DFE-4551-948B-21ED8920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E23B5-B44A-4184-87F0-2522CB05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B65A-40BE-48E4-920A-3D359C9B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B9F64-E37D-42E5-A856-5CFE74F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85A6-4F3E-44E2-A9AB-639D7A7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84838-6918-43D6-8340-1644D58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536-8190-4B54-9F0C-A481B082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9D671-8CEC-49BB-8CC3-D510E60F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E650-065A-4288-92C3-2EC47F44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769C5-953A-49BC-BACA-7A35EDAD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F9A1D-39F1-484F-937D-0237E920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BC8C-1E58-41B2-BE98-C3A96CC1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06314-59F1-4CF8-8035-DCB4AC44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D1D2-94A4-470E-BD2B-59BCDC69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79975-73E3-4F3B-BE4F-D3E9B70F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9A1E-AD28-4902-A8EF-9FEFB103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46034-B8B5-469A-891F-1522958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E60-E36A-4E6C-AA72-44424461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7FF2E-269E-4850-952C-EC5731AF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65194-D196-4586-A8B1-2BB42047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37C88-46F6-492A-A786-91F3703B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8DB65-EC34-4378-9A1B-03CCFEED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EE2D-10DA-49AB-8EC9-D8F9A47A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06A78-69C1-4C8A-8732-92E1C41C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59D63-63A4-4D2E-B0D1-6895CB3C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91F9-2DD1-4CDF-B711-BEE09394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7D9B5-10BC-4F08-B096-4E2E1F9A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82B5E-0460-42BD-BC28-3B57F827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B18-3D1E-4760-91B8-BF8FB40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943A8-220C-4673-8565-22207312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C773E-2250-4C4C-B943-7CD768D9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6700-C7B0-45AF-A5A8-D35829B5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0D03E-EF96-4B85-9BF6-2070CE0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4197C-4EDA-4FF0-AFF2-134D8098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E06B5-2FB5-4C2A-893B-49438213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601B8-302A-4F68-8F04-61D405E0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D0469-EFB6-43DD-872B-F29C1A5A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B2E31-C1DE-4F23-95A4-4B500E12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391C2-5252-4F9E-A3B7-184A2145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410F-97D9-4C4A-8664-74B4E5017AD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-2376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C3C8-81BA-442D-B28C-AB05FB72E99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7B3C-F235-490E-8270-143A8ABB4E9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6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9C20-8521-4A5F-ACE8-5D35E5B58F1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E747-9ED2-4763-B421-3B1837F91A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AC6E-3BB6-4BC2-B3B5-3D2B5D3248C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0874-BC6D-4EE1-94B6-EEF250179D0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78A3-3B41-454D-89E2-8978DF503CE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4F24-276A-440C-8E74-D3CB86E32FB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DAAE-DF80-4F33-A5BD-E5DD4E71866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C121-2D99-4378-AABC-C9E08302EC5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6" descr="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998C-882F-47CD-BDA7-604A86C4F03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8C3B-2BBC-428F-BDDA-A8347F78BD7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BCB1-0CDB-4F2C-B51E-C7FD3A84A0E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60DA-BC66-4A37-8A2A-844FD7BE6F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F9D1-9192-4277-8E34-8085A905D92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"/>
          <p:cNvPicPr/>
          <p:nvPr/>
        </p:nvPicPr>
        <p:blipFill>
          <a:blip r:embed="rId3"/>
          <a:stretch/>
        </p:blipFill>
        <p:spPr>
          <a:xfrm>
            <a:off x="-14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56EF-5BA2-4F35-BCA6-15AFBAA2C8E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EB92-87A4-48A6-96A5-6E28CEF2AA6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E20-4427-4853-8287-83ED185B5ED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BE48-4BE1-45F4-B26F-39283B21440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D3E3-D584-416C-91CC-1A8A4268101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0BB8-0C9B-4769-BAB6-856F4D996A7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c3324"/>
                </a:solidFill>
                <a:latin typeface="Arial"/>
                <a:ea typeface="Arial"/>
              </a:rPr>
              <a:t>Mjerimo masu vag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927" name="TextBox 4"/>
          <p:cNvSpPr/>
          <p:nvPr/>
        </p:nvSpPr>
        <p:spPr>
          <a:xfrm>
            <a:off x="609480" y="1828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vaga i kako se njome služi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2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960640" cy="3257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" descr=""/>
          <p:cNvPicPr/>
          <p:nvPr/>
        </p:nvPicPr>
        <p:blipFill>
          <a:blip r:embed="rId3"/>
          <a:stretch/>
        </p:blipFill>
        <p:spPr>
          <a:xfrm>
            <a:off x="304920" y="2743200"/>
            <a:ext cx="2124000" cy="1590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vaga"/>
          <p:cNvPicPr/>
          <p:nvPr/>
        </p:nvPicPr>
        <p:blipFill>
          <a:blip r:embed="rId4"/>
          <a:stretch/>
        </p:blipFill>
        <p:spPr>
          <a:xfrm>
            <a:off x="685800" y="4267080"/>
            <a:ext cx="2560680" cy="2011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7" descr="vaga2"/>
          <p:cNvPicPr/>
          <p:nvPr/>
        </p:nvPicPr>
        <p:blipFill>
          <a:blip r:embed="rId5"/>
          <a:stretch/>
        </p:blipFill>
        <p:spPr>
          <a:xfrm>
            <a:off x="7086600" y="4165560"/>
            <a:ext cx="153684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698040"/>
            <a:ext cx="822960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Vaga – mjerilo za m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295280" y="1371240"/>
            <a:ext cx="64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e tijela uspoređujemo vag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4" name="Picture 3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657600" cy="1917720"/>
          </a:xfrm>
          <a:prstGeom prst="rect">
            <a:avLst/>
          </a:prstGeom>
          <a:ln w="0">
            <a:noFill/>
          </a:ln>
        </p:spPr>
      </p:pic>
      <p:sp>
        <p:nvSpPr>
          <p:cNvPr id="935" name="TextBox 4"/>
          <p:cNvSpPr/>
          <p:nvPr/>
        </p:nvSpPr>
        <p:spPr>
          <a:xfrm>
            <a:off x="1468080" y="4952880"/>
            <a:ext cx="629352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ko je vaga u ravnoteži, masa tijela na jedn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litici jednaka je masi tijela na drugoj pli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a – zna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novna jedinica mase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l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znak k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468000" y="2438280"/>
            <a:ext cx="821844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anje jedin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se 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ekagram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ag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;  1 kg = 100 d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ram         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    ;  1 kg = 1 000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iligram   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  ;  1 g = 1 000 m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eća jedinic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se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na           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     ; 1 t = 1000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4"/>
          <p:cNvSpPr/>
          <p:nvPr/>
        </p:nvSpPr>
        <p:spPr>
          <a:xfrm>
            <a:off x="304920" y="1523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đivanje mase tijela s pomoću poznate mase ut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8"/>
          <p:cNvSpPr/>
          <p:nvPr/>
        </p:nvSpPr>
        <p:spPr>
          <a:xfrm>
            <a:off x="762120" y="5029200"/>
            <a:ext cx="769608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iti masu nekog tijela znači usporediti masu tog tijela s poznatom masom ute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257200" cy="26096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6"/>
          <p:cNvSpPr/>
          <p:nvPr/>
        </p:nvSpPr>
        <p:spPr>
          <a:xfrm>
            <a:off x="4205880" y="2514600"/>
            <a:ext cx="35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100 g + 50 g + 10 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Slika 6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4"/>
          <p:cNvSpPr/>
          <p:nvPr/>
        </p:nvSpPr>
        <p:spPr>
          <a:xfrm>
            <a:off x="304920" y="1523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jenja li se masa promjenom oblika tije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8"/>
          <p:cNvSpPr/>
          <p:nvPr/>
        </p:nvSpPr>
        <p:spPr>
          <a:xfrm>
            <a:off x="762120" y="4876920"/>
            <a:ext cx="769608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 promjenama oblika tijela ukupna masa ostaje jednaka. To je zakon očuvanja m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429680" cy="1876680"/>
          </a:xfrm>
          <a:prstGeom prst="rect">
            <a:avLst/>
          </a:prstGeom>
          <a:ln w="0">
            <a:noFill/>
          </a:ln>
        </p:spPr>
      </p:pic>
      <p:pic>
        <p:nvPicPr>
          <p:cNvPr id="946" name="Slika 5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Box 3"/>
          <p:cNvSpPr/>
          <p:nvPr/>
        </p:nvSpPr>
        <p:spPr>
          <a:xfrm>
            <a:off x="-37080" y="1447920"/>
            <a:ext cx="83404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m slovom označujemo masu?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osnovna mjer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edinica za mas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2.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ime mjerimo mas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3.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znači mjeriti masu vago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 miješanju brašna i vode dobiva se tijesto. Je li m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ijesta jednaka zbroju masa brašna i vo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Slika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400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Tomislav Dumančić</cp:lastModifiedBy>
  <dcterms:modified xsi:type="dcterms:W3CDTF">2019-09-17T07:54:26Z</dcterms:modified>
  <cp:revision>52</cp:revision>
  <dc:subject/>
  <dc:title>Slide 1</dc:title>
</cp:coreProperties>
</file>